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2662-215A-4FE3-BAD0-71AE4B1A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7C0-1996-47A4-90DD-96A67185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658-E9BF-4E9D-8AF8-9C3063E0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EED9-8C34-4B73-89B6-8C1FF78F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C153-A6E2-41E7-821D-2C06F679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BA5C-DC7A-494B-85D9-C1C6AC7B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5D9E-FB35-4AA1-8E09-83BD3E53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ACB0-DE47-4B4E-A082-AC539DB4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996B-31B0-4EDD-8177-003BF1E8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3A3D-0B56-4770-8E9F-B468A4F8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7BF4-1F79-4FDE-96A1-F002F28F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24BE-FBC0-4707-ACEB-D232FBAC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45E2-F3AE-4FEF-82E7-4FC79BD8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94BE-FE68-4959-A36B-F10FFB43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0EA9-51BE-4750-81CD-FD37B99D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784B-7D42-4CCE-93BA-CA53935E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8B19-9F71-4345-A46F-FD211430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3A3-E55E-4259-AA1F-8ACC904E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F921-B62D-463D-8F79-067E849A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24B-E52E-4B43-BE7F-A0944F98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5D7-C566-4B2A-8014-9F41BFE2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79B-02B6-4090-B4FB-41FCE4C7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C018-51A1-4915-8782-3C8560F9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F1CB-490F-4E0E-894D-557BCFDE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dd8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cc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dd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CDE6-3299-4950-A150-61DB4F11F0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d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d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ffd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dd8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cc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dd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8852-E58E-4F01-995E-F6E6533A203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dd89"/>
                </a:solidFill>
                <a:latin typeface="Century Gothic"/>
              </a:rPr>
              <a:t>4</a:t>
            </a:r>
            <a:r>
              <a:rPr b="0" lang="en-US" sz="5400" spc="-1" strike="noStrike" baseline="30000">
                <a:solidFill>
                  <a:srgbClr val="ffdd89"/>
                </a:solidFill>
                <a:latin typeface="Century Gothic"/>
              </a:rPr>
              <a:t>th</a:t>
            </a:r>
            <a:r>
              <a:rPr b="0" lang="en-US" sz="5400" spc="-1" strike="noStrike">
                <a:solidFill>
                  <a:srgbClr val="ffdd89"/>
                </a:solidFill>
                <a:latin typeface="Century Gothic"/>
              </a:rPr>
              <a:t> 9-weeks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dd89"/>
                </a:solidFill>
                <a:latin typeface="Century Gothic"/>
              </a:rPr>
              <a:t>Review</a:t>
            </a:r>
            <a:endParaRPr b="0" lang="en-US" sz="5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Innovations in Technology (Internet)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35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o uses tax revenue from individuals and businesses to provide public goods and services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governments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o promotes and regulates competition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The government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What does EPA stand for?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Environmental Protection Agency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What does FCC stand for?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Federal Communications Commission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Tell the three government agencies that regulate business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41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Government and Economy</a:t>
            </a:r>
            <a:br>
              <a:rPr sz="4400"/>
            </a:b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CE.11 a-d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Workforce and Careers</a:t>
            </a:r>
            <a:br>
              <a:rPr sz="4400"/>
            </a:b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CE.10 d</a:t>
            </a:r>
            <a:br>
              <a:rPr sz="4400"/>
            </a:b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CE.12 a-d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FCC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EPA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FTC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Give three ways the government promotes marketplace competition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41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1.  Enforcing antitrust legislation to discourage the development of monopolies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2.  Engaging in global trade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3.  Supporting business start-ups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80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ich Amendment to the Constitution of the United States of America authorizes Congress to tax incomes (personal and business)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16</a:t>
            </a:r>
            <a:r>
              <a:rPr b="0" lang="en-US" sz="4400" spc="-1" strike="noStrike" baseline="30000">
                <a:solidFill>
                  <a:srgbClr val="ffdd89"/>
                </a:solidFill>
                <a:latin typeface="Century Gothic"/>
              </a:rPr>
              <a:t>th</a:t>
            </a: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 Amendment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do we call worldwide markets in which the buying and selling of goods and services by all nations takes place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Global Economy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Give three reasons why states and nations trade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-762120" algn="ctr">
              <a:buClr>
                <a:srgbClr val="ffdd8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To obtain goods and services they cannot produce or produce efficiently themselves.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2.  To buy goods and services at a lower cost or a lower opportunity cost.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3.  To sell goods and services to other countries.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4.  To create jobs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88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Virginia and the United States ___________ in the production of certain goods and services which promotes efficiency and growth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What does the FTC stand for?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specialize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reduces funds available for borrowing by individuals and businesses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Increased government borrowing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increases funds available for borrowing by individuals and businesses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Decreased government borrowing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may result in lower taxes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Decreased government spending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might result in higher taxes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Increased government spending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reduces demand, which may result in a slowing of the economy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Federal Trade Commission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Decreased government spending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increases demand, which may increase employment and production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Increased government spending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increases funds for private and business spending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Government tax decreases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reduces the funds available for private and business spending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Government tax increases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Give three ways the Federal Reserve Bank slows the economy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-762120" algn="ctr">
              <a:buClr>
                <a:srgbClr val="ffdd8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Increases the reserve requirement.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2.  Raises the discount rate.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3.  Sells government securities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Give three ways the Federal Reserve Bank stimulates the economy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Century Gothic"/>
              </a:rPr>
              <a:t>Name 3 examples of public goods and services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-762120">
              <a:buClr>
                <a:srgbClr val="ffdd8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Lowers the reserve requirement.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2.  Lowers the discount rate.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3.  Purchases government securities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does the Federal Reserve System regulate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Money supply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does the Federal Reserve Bank act as by issuing currency and regulating the amount of money in circulation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A banker’s bank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How does the Federal Reserve Bank stimulate the economy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It increases the money supply causing interest rates to decline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is the central bank of the United States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The Federal Reserve System (Fed)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How does the Federal Reserve Bank slow the economy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Interstate Highways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Postal Service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National Defense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It restricts the money supply, causing interest rates to rise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Individuals have the right of private ownership.  How is this private ownership protected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It’s protected by negotiated contracts that are enforceable by law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Government agencies establish guidelines that protect public _______ and _______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Health and safety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o may take legal action against violations of consumer rights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consumers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o passes laws and creates agencies to protect consumer rights and property rights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The United States government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______ and ______ also influence job income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y does the government provide public goods and services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Supply and demand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Innovation in technology (e.g. the Internet) contribute to what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The global flow of information, capital, goods and services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Use of technological innovations does what to the cost of production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Lowers it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does career planning start with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Self-assessment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Employers seek individuals who have kept pace with what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Technological change/skills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kind of employees does an employer seek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ould not be available if individuals had to provide them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Employees who demonstrate the attitudes and behaviors of a strong work ethic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TRUE OR FALSE?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There is not a correlation between skills, education and income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FALSE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is needed to select a career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An awareness of individual talents, interests and aspirations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do Virginia and the United States do in order to increase wealth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Pursue international trade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has contributed to the global flow of information, capital, and goods and services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3:05:20Z</dcterms:created>
  <dc:creator>paupulley</dc:creator>
  <dc:description/>
  <dc:language>en-US</dc:language>
  <cp:lastModifiedBy>Phillip McGinnis</cp:lastModifiedBy>
  <dcterms:modified xsi:type="dcterms:W3CDTF">2012-06-01T15:12:44Z</dcterms:modified>
  <cp:revision>8</cp:revision>
  <dc:subject/>
  <dc:title>4th 9-weeks</dc:title>
</cp:coreProperties>
</file>